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D97-F608-43C5-9018-436AAE21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86B-D165-40AA-B84A-EB01269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51-1441-4A96-82B4-63DAB8E8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257-C2C1-439A-94ED-2CDE412B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747-1909-425B-8170-242A93A2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E11-9943-412B-A2A7-2DDC190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E94-5C7C-4016-B0F3-11763DD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459-13F1-42E9-B164-53B390E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1D5-E3AA-481A-A33C-C9CF7BD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727-4E1F-4AF0-867A-4015B6E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4F1-198C-4AA7-B614-57BFEFC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388-132B-4403-BB18-9A85E7C0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1FA8-A288-4FB2-A943-4AB711D02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6320" y="228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symbo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506520" y="762120"/>
          <a:ext cx="3808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62120"/>
                    <a:ext cx="3808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1905120" y="671400"/>
          <a:ext cx="539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671400"/>
                    <a:ext cx="539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6320" y="228600"/>
            <a:ext cx="89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ample t test &amp; interv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sample t test &amp; inter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533520" y="3048120"/>
          <a:ext cx="143172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143172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5867280" y="2590920"/>
          <a:ext cx="21337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590920"/>
                    <a:ext cx="2133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533520" y="4800600"/>
          <a:ext cx="146196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461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5029200" y="4419720"/>
          <a:ext cx="3870360" cy="13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419720"/>
                    <a:ext cx="3870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6"/>
          <p:cNvGraphicFramePr/>
          <p:nvPr/>
        </p:nvGraphicFramePr>
        <p:xfrm>
          <a:off x="228600" y="762120"/>
          <a:ext cx="2095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762120"/>
                    <a:ext cx="2095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2514600" y="83808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,</m:t>
                        </m:r>
                        <m:r>
                          <m:t xml:space="preserve">&lt;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Object 8"/>
          <p:cNvGraphicFramePr/>
          <p:nvPr/>
        </p:nvGraphicFramePr>
        <p:xfrm>
          <a:off x="6010200" y="762120"/>
          <a:ext cx="260352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0200" y="762120"/>
                    <a:ext cx="2603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6320" y="228600"/>
            <a:ext cx="89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ample Z test &amp; interv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sample Z test &amp; inter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457200" y="2895480"/>
          <a:ext cx="1816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181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380880" y="4538520"/>
                <a:ext cx="2065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7200" y="114300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≠</m:t>
                        </m:r>
                        <m:r>
                          <m:t xml:space="preserve">,</m:t>
                        </m:r>
                        <m:r>
                          <m:t xml:space="preserve">&lt;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Object 5"/>
          <p:cNvGraphicFramePr/>
          <p:nvPr/>
        </p:nvGraphicFramePr>
        <p:xfrm>
          <a:off x="4876920" y="631800"/>
          <a:ext cx="2635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631800"/>
                    <a:ext cx="263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6"/>
          <p:cNvGraphicFramePr/>
          <p:nvPr/>
        </p:nvGraphicFramePr>
        <p:xfrm>
          <a:off x="3886200" y="4795920"/>
          <a:ext cx="495000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795920"/>
                    <a:ext cx="49500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7"/>
          <p:cNvGraphicFramePr/>
          <p:nvPr/>
        </p:nvGraphicFramePr>
        <p:xfrm>
          <a:off x="5943600" y="3505320"/>
          <a:ext cx="276084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505320"/>
                    <a:ext cx="27608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9"/>
          <p:cNvGraphicFramePr/>
          <p:nvPr/>
        </p:nvGraphicFramePr>
        <p:xfrm>
          <a:off x="4876920" y="1981080"/>
          <a:ext cx="3084480" cy="12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1981080"/>
                    <a:ext cx="30844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2840" y="22860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-Square Te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28600" y="685800"/>
          <a:ext cx="61610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6161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3"/>
          <p:cNvSpPr/>
          <p:nvPr/>
        </p:nvSpPr>
        <p:spPr>
          <a:xfrm>
            <a:off x="241200" y="26668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 Reg t Test &amp; interv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441360" y="3395520"/>
          <a:ext cx="22208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3395520"/>
                    <a:ext cx="22208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5"/>
          <p:cNvGraphicFramePr/>
          <p:nvPr/>
        </p:nvGraphicFramePr>
        <p:xfrm>
          <a:off x="700200" y="4800600"/>
          <a:ext cx="132552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200" y="4800600"/>
                    <a:ext cx="1325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4724280" y="3505320"/>
          <a:ext cx="182268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505320"/>
                    <a:ext cx="18226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7:56:24Z</dcterms:created>
  <dc:creator>pwheeles</dc:creator>
  <dc:description/>
  <dc:language>en-US</dc:language>
  <cp:lastModifiedBy>Lauren McNelis</cp:lastModifiedBy>
  <dcterms:modified xsi:type="dcterms:W3CDTF">2012-01-05T13:15:44Z</dcterms:modified>
  <cp:revision>14</cp:revision>
  <dc:subject/>
  <dc:title>Slide 1</dc:title>
</cp:coreProperties>
</file>